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FFAE-762B-4D2C-A1F7-7058D3C5A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D814-3B84-4D98-85EE-690646E6B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313A-2B90-426A-8B56-FCFEF00B3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6A2D-3A9A-4597-B4BB-F2C6B028D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E7A9-CAA3-4035-B22E-4B013A722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FA5B-6AB1-47C1-8278-A3D2408A0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5E4F-86A7-4539-A6A5-174BE59F4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51CE-BD86-489B-97C6-635B6E3B7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AF8F-C99A-4B15-8F8F-5E853222D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5744-52D9-409B-AA28-2960B67A4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2F9C-A55F-4A5D-BC32-8A2E7D0C5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9F30-C1BB-4512-9D60-5A19A647D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A9981-238D-4F2E-BA2C-D5D662CA6D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2200" y="417600"/>
            <a:ext cx="7587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rixel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knows about HTM math only. Useful static method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ol IsValid(hid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id = Cartesian2Hid(Cartesian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oTriangle(hid, out Cartesian a, out Cartesian b, ...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ength = ToName(hid, char[64] name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id = Name2Hid(string | char[64] na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id = Truncate(hid, 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Int64Pair&gt; Extend(hid, lev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evel = LevelOf(hid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FeatureSize(level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alfspace Trixel.ToBoundingCircle(hi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11200" y="3886200"/>
            <a:ext cx="6456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ver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knows about Halfspaces, Convexes, etc. Useful static method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&lt;Int64&gt; = HidList(Region r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&lt;Int64Pair&gt; = HidRange(Region r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ol IsHidInCoverlist(hid, coverlis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5:39:51Z</dcterms:created>
  <dc:creator>Gyorgy Fekete</dc:creator>
  <dc:description/>
  <dc:language>en-US</dc:language>
  <cp:lastModifiedBy>Gyorgy Fekete</cp:lastModifiedBy>
  <dcterms:modified xsi:type="dcterms:W3CDTF">2006-03-09T15:59:14Z</dcterms:modified>
  <cp:revision>16</cp:revision>
  <dc:subject/>
  <dc:title>Slide 1</dc:title>
</cp:coreProperties>
</file>