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F666-DEED-4C1E-AE2D-265D12F4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26B7-C872-4196-BD8D-D9429306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B2D1-BA71-4794-84F4-E6AA8CA8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9E5D-B5AE-49EF-A2A2-33FFCD65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F825-0643-4F1B-89FB-34D35DB6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19AF-90AA-43B3-8C3B-A727F24F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022F-826C-4E4B-9A8F-AF163E17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6E01-74C3-4EF6-90CC-77B04608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7982-1DF7-4160-9DBA-D0EE0474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E6EF-DE25-4BFE-BF98-F26EAFE0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B15B-185E-4808-8345-EFE908D4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53E7-C928-4CA1-81A7-AAE69881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54E7-C4A6-4716-BD01-E37C6C912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2200" y="417600"/>
            <a:ext cx="7587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ixel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knows about HTM math only. Useful static 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 IsValid(hi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d = Cartesian2Hid(Cartesia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riangle(hid, out Cartesian a, out Cartesian b, ...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ngth = ToName(hid, char[64] nam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d = Name2Hid(string | char[64] 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id = Truncate(hid, 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Int64Pair&gt; Extend(hid, le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vel = LevelOf(hi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FeatureSize(leve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lfspace Trixel.ToBoundingCircle(h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1200" y="3886200"/>
            <a:ext cx="6456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ver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knows about Halfspaces, Convexes, etc. Useful static metho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&lt;Int64&gt; = HidList(Region 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&lt;Int64Pair&gt; = HidRange(Region 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 IsHidInCoverlist(hid, coverlis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5:39:51Z</dcterms:created>
  <dc:creator>Gyorgy Fekete</dc:creator>
  <dc:description/>
  <dc:language>en-US</dc:language>
  <cp:lastModifiedBy>Gyorgy Fekete</cp:lastModifiedBy>
  <dcterms:modified xsi:type="dcterms:W3CDTF">2006-03-09T15:59:14Z</dcterms:modified>
  <cp:revision>16</cp:revision>
  <dc:subject/>
  <dc:title>Slide 1</dc:title>
</cp:coreProperties>
</file>